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8.jpeg" ContentType="image/jpe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1.wmf" ContentType="image/x-wmf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98560" y="740880"/>
            <a:ext cx="4922640" cy="369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3596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05200" y="93596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C85C-92AA-476D-AC53-CD2184905A7D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B942-7484-4BCD-B8FE-177938D2B31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LT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CE89-203E-411C-8F43-B3A5229E0EE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LT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FEB6-0C75-45E5-AD20-715A07D72FE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1175-CE1D-4C34-8BC3-2B877AF7FE2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7BF6-40D2-4F0D-AD75-7450376F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8280-3AF4-49E7-BBE0-65CF13A1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705F-0DAE-4316-AAD7-7BFB1F8F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D826-566E-4203-898A-5A77A4AA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551E-8241-476B-A203-18C7627C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D0F8-3F44-454A-AE6E-7DF5790C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3A02-35C0-44E1-A96A-9BFCA75B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0536-82C1-4FEA-9E17-4B2B4C49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7B10-A520-4DE1-A658-DECF2B9D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EC16-4819-415E-A10E-35117029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831A-1B22-46E0-B96D-1D1C9896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A1E3-2B63-42B5-B7FC-6DF7EBCA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1568-AD28-4D6D-AD75-E6CAD52A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4BF7-346B-49AD-A5E7-FCA29054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531F-CDA8-4CD2-A7DB-DF6091E5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F107-90A6-495C-83FF-B1D0DA36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3C5A-FA25-4190-AFED-CBDD5E9E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AE62-53F5-41EA-98EB-8BD4625A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2B20-11DA-433E-9AB6-F078D86D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4861-0E51-4754-8456-10188496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DF53-7E88-4A25-95BC-82B4C66F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8C35-1FD7-4802-B9F0-0E1B8547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C121-2AAF-43AF-A561-A753B06D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1908-DA6F-4448-869F-3EA17F03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07E4-5122-4EBA-883E-0D56DF5F72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icture 17"/>
          <p:cNvSpPr/>
          <p:nvPr/>
        </p:nvSpPr>
        <p:spPr>
          <a:xfrm>
            <a:off x="3957480" y="258840"/>
            <a:ext cx="1436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AED7-F74B-4A35-A464-AB15C96CF5B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"/>
          <p:cNvPicPr/>
          <p:nvPr/>
        </p:nvPicPr>
        <p:blipFill>
          <a:blip r:embed="rId1"/>
          <a:srcRect l="0" t="27643" r="0" b="0"/>
          <a:stretch/>
        </p:blipFill>
        <p:spPr>
          <a:xfrm>
            <a:off x="5659560" y="3241800"/>
            <a:ext cx="895320" cy="990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3351240" y="3009960"/>
            <a:ext cx="1438200" cy="920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920" y="668160"/>
            <a:ext cx="914400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BE" sz="2800" spc="-1" strike="noStrike">
                <a:solidFill>
                  <a:srgbClr val="ffd624"/>
                </a:solidFill>
                <a:latin typeface="Arial"/>
                <a:ea typeface="Arial"/>
              </a:rPr>
              <a:t>2019 DEVCO Infrastructure Seminar</a:t>
            </a:r>
            <a:br>
              <a:rPr sz="2800"/>
            </a:br>
            <a:r>
              <a:rPr b="1" lang="fr-BE" sz="2800" spc="-1" strike="noStrike">
                <a:solidFill>
                  <a:srgbClr val="ffd624"/>
                </a:solidFill>
                <a:latin typeface="Arial"/>
                <a:ea typeface="Arial"/>
              </a:rPr>
              <a:t>02 – 06 December 2019, Brussels, Belgium</a:t>
            </a:r>
            <a:br>
              <a:rPr sz="2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8" name="Picture 169" descr="avionsurvol"/>
          <p:cNvPicPr/>
          <p:nvPr/>
        </p:nvPicPr>
        <p:blipFill>
          <a:blip r:embed="rId3"/>
          <a:srcRect l="9843" t="14763" r="9843" b="14763"/>
          <a:stretch/>
        </p:blipFill>
        <p:spPr>
          <a:xfrm>
            <a:off x="5407200" y="4311720"/>
            <a:ext cx="1439640" cy="12412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4103640" y="6630840"/>
            <a:ext cx="936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600" spc="-1" strike="noStrike">
                <a:solidFill>
                  <a:srgbClr val="ffff00"/>
                </a:solidFill>
                <a:latin typeface="Arial"/>
                <a:ea typeface="Arial"/>
              </a:rPr>
              <a:t>DEVCO C/5 </a:t>
            </a:r>
            <a:br>
              <a:rPr sz="600"/>
            </a:br>
            <a:endParaRPr b="0" lang="en-US" sz="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619200" y="4773600"/>
            <a:ext cx="8531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  <a:ea typeface="Arial"/>
              </a:rPr>
              <a:t>Brussels, 02 Dec 2019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1" name="Picture 13" descr=""/>
          <p:cNvPicPr/>
          <p:nvPr/>
        </p:nvPicPr>
        <p:blipFill>
          <a:blip r:embed="rId4"/>
          <a:stretch/>
        </p:blipFill>
        <p:spPr>
          <a:xfrm>
            <a:off x="3960720" y="3738600"/>
            <a:ext cx="1930320" cy="1268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"/>
          <p:cNvPicPr/>
          <p:nvPr/>
        </p:nvPicPr>
        <p:blipFill>
          <a:blip r:embed="rId5"/>
          <a:stretch/>
        </p:blipFill>
        <p:spPr>
          <a:xfrm>
            <a:off x="2255760" y="3857760"/>
            <a:ext cx="1724040" cy="1147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"/>
          <p:cNvPicPr/>
          <p:nvPr/>
        </p:nvPicPr>
        <p:blipFill>
          <a:blip r:embed="rId6"/>
          <a:stretch/>
        </p:blipFill>
        <p:spPr>
          <a:xfrm>
            <a:off x="2065320" y="4773600"/>
            <a:ext cx="1671480" cy="1111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"/>
          <p:cNvPicPr/>
          <p:nvPr/>
        </p:nvPicPr>
        <p:blipFill>
          <a:blip r:embed="rId7"/>
          <a:stretch/>
        </p:blipFill>
        <p:spPr>
          <a:xfrm>
            <a:off x="4297320" y="5006880"/>
            <a:ext cx="1316160" cy="876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"/>
          <p:cNvPicPr/>
          <p:nvPr/>
        </p:nvPicPr>
        <p:blipFill>
          <a:blip r:embed="rId8"/>
          <a:stretch/>
        </p:blipFill>
        <p:spPr>
          <a:xfrm>
            <a:off x="3328920" y="4745160"/>
            <a:ext cx="1436760" cy="96048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"/>
          <p:cNvGrpSpPr/>
          <p:nvPr/>
        </p:nvGrpSpPr>
        <p:grpSpPr>
          <a:xfrm>
            <a:off x="3575160" y="6010200"/>
            <a:ext cx="1832040" cy="430200"/>
            <a:chOff x="3575160" y="6010200"/>
            <a:chExt cx="1832040" cy="430200"/>
          </a:xfrm>
        </p:grpSpPr>
        <p:pic>
          <p:nvPicPr>
            <p:cNvPr id="107" name="Picture 13" descr=""/>
            <p:cNvPicPr/>
            <p:nvPr/>
          </p:nvPicPr>
          <p:blipFill>
            <a:blip r:embed="rId9"/>
            <a:stretch/>
          </p:blipFill>
          <p:spPr>
            <a:xfrm>
              <a:off x="4526280" y="6010200"/>
              <a:ext cx="41580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30" descr=""/>
            <p:cNvPicPr/>
            <p:nvPr/>
          </p:nvPicPr>
          <p:blipFill>
            <a:blip r:embed="rId10"/>
            <a:stretch/>
          </p:blipFill>
          <p:spPr>
            <a:xfrm>
              <a:off x="4999320" y="6010200"/>
              <a:ext cx="407880" cy="4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9" descr=""/>
            <p:cNvPicPr/>
            <p:nvPr/>
          </p:nvPicPr>
          <p:blipFill>
            <a:blip r:embed="rId11"/>
            <a:stretch/>
          </p:blipFill>
          <p:spPr>
            <a:xfrm>
              <a:off x="3575160" y="6010200"/>
              <a:ext cx="39348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31" descr=""/>
            <p:cNvPicPr/>
            <p:nvPr/>
          </p:nvPicPr>
          <p:blipFill>
            <a:blip r:embed="rId12"/>
            <a:stretch/>
          </p:blipFill>
          <p:spPr>
            <a:xfrm>
              <a:off x="4040280" y="6010200"/>
              <a:ext cx="407880" cy="43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4103640" y="6630840"/>
            <a:ext cx="936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600" spc="-1" strike="noStrike">
                <a:solidFill>
                  <a:srgbClr val="ffff00"/>
                </a:solidFill>
                <a:latin typeface="Arial"/>
                <a:ea typeface="Arial"/>
              </a:rPr>
              <a:t>DEVCO C/6 </a:t>
            </a:r>
            <a:br>
              <a:rPr sz="600"/>
            </a:br>
            <a:endParaRPr b="0" lang="en-US" sz="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3708360" y="0"/>
            <a:ext cx="484812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593640" y="1341360"/>
            <a:ext cx="2051280" cy="1055880"/>
          </a:xfrm>
          <a:prstGeom prst="rect">
            <a:avLst/>
          </a:prstGeom>
          <a:ln w="0">
            <a:noFill/>
          </a:ln>
        </p:spPr>
      </p:pic>
      <p:grpSp>
        <p:nvGrpSpPr>
          <p:cNvPr id="114" name="TextBox 3"/>
          <p:cNvGrpSpPr/>
          <p:nvPr/>
        </p:nvGrpSpPr>
        <p:grpSpPr>
          <a:xfrm>
            <a:off x="189000" y="2548080"/>
            <a:ext cx="2859120" cy="2773080"/>
            <a:chOff x="189000" y="2548080"/>
            <a:chExt cx="2859120" cy="2773080"/>
          </a:xfrm>
        </p:grpSpPr>
        <p:pic>
          <p:nvPicPr>
            <p:cNvPr id="115" name="TextBox 3" descr=""/>
            <p:cNvPicPr/>
            <p:nvPr/>
          </p:nvPicPr>
          <p:blipFill>
            <a:blip r:embed="rId3"/>
            <a:stretch/>
          </p:blipFill>
          <p:spPr>
            <a:xfrm>
              <a:off x="189000" y="2548080"/>
              <a:ext cx="2859120" cy="27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22280" y="2781360"/>
              <a:ext cx="23940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0f5494"/>
                  </a:solidFill>
                  <a:latin typeface="Verdana"/>
                </a:rPr>
                <a:t>Priorities of the New European Commission… </a:t>
              </a:r>
              <a:endParaRPr b="0" lang="en-US" sz="18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BE" sz="1800" spc="-1" strike="noStrike">
                  <a:solidFill>
                    <a:srgbClr val="ff9933"/>
                  </a:solidFill>
                  <a:latin typeface="Verdana"/>
                </a:rPr>
                <a:t>…</a:t>
              </a:r>
              <a:r>
                <a:rPr b="1" i="1" lang="fr-BE" sz="1800" spc="-1" strike="noStrike">
                  <a:solidFill>
                    <a:srgbClr val="ff9933"/>
                  </a:solidFill>
                  <a:latin typeface="Verdana"/>
                </a:rPr>
                <a:t>and their translation into the external context</a:t>
              </a:r>
              <a:endParaRPr b="0" lang="en-US" sz="18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17" name="Right Arrow 4"/>
          <p:cNvSpPr/>
          <p:nvPr/>
        </p:nvSpPr>
        <p:spPr>
          <a:xfrm>
            <a:off x="3009960" y="3754440"/>
            <a:ext cx="869760" cy="5382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125280" y="147600"/>
            <a:ext cx="5040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9933"/>
                </a:solidFill>
                <a:latin typeface="Verdana"/>
                <a:ea typeface="Arial"/>
              </a:rPr>
              <a:t>The 2019 Infrastructure Seminar within the New European Commission Context 2019-2024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9" name="Picture 1" descr=""/>
          <p:cNvPicPr/>
          <p:nvPr/>
        </p:nvPicPr>
        <p:blipFill>
          <a:blip r:embed="rId4"/>
          <a:stretch/>
        </p:blipFill>
        <p:spPr>
          <a:xfrm>
            <a:off x="7816680" y="825480"/>
            <a:ext cx="73980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103640" y="6630840"/>
            <a:ext cx="936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600" spc="-1" strike="noStrike">
                <a:solidFill>
                  <a:srgbClr val="ffff00"/>
                </a:solidFill>
                <a:latin typeface="Arial"/>
                <a:ea typeface="Arial"/>
              </a:rPr>
              <a:t>DEVCO C/5</a:t>
            </a:r>
            <a:endParaRPr b="0" lang="en-US" sz="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4000" y="5580000"/>
            <a:ext cx="72723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TextBox 23"/>
          <p:cNvSpPr/>
          <p:nvPr/>
        </p:nvSpPr>
        <p:spPr>
          <a:xfrm>
            <a:off x="1476360" y="5818320"/>
            <a:ext cx="651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00"/>
                </a:solidFill>
                <a:latin typeface="Verdana"/>
                <a:ea typeface="Arial"/>
              </a:rPr>
              <a:t> </a:t>
            </a:r>
            <a:r>
              <a:rPr b="1" lang="fr-BE" sz="1600" spc="-1" strike="noStrike">
                <a:solidFill>
                  <a:srgbClr val="ffff00"/>
                </a:solidFill>
                <a:latin typeface="Verdana"/>
                <a:ea typeface="Arial"/>
              </a:rPr>
              <a:t>Time for Transformation: We need to do it differently, we need to do it smart, we need to put the right focus…. 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TextBox 24"/>
          <p:cNvSpPr/>
          <p:nvPr/>
        </p:nvSpPr>
        <p:spPr>
          <a:xfrm>
            <a:off x="0" y="152280"/>
            <a:ext cx="3924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9933"/>
                </a:solidFill>
                <a:latin typeface="Verdana"/>
                <a:ea typeface="Arial"/>
              </a:rPr>
              <a:t>International Partnership: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9933"/>
                </a:solidFill>
                <a:latin typeface="Verdana"/>
                <a:ea typeface="Arial"/>
              </a:rPr>
              <a:t>… </a:t>
            </a:r>
            <a:r>
              <a:rPr b="1" lang="fr-BE" sz="1400" spc="-1" strike="noStrike">
                <a:solidFill>
                  <a:srgbClr val="ff9933"/>
                </a:solidFill>
                <a:latin typeface="Verdana"/>
                <a:ea typeface="Arial"/>
              </a:rPr>
              <a:t>through the lenses of Infrastructure …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124" name="Group 7"/>
          <p:cNvGrpSpPr/>
          <p:nvPr/>
        </p:nvGrpSpPr>
        <p:grpSpPr>
          <a:xfrm>
            <a:off x="1150920" y="1432080"/>
            <a:ext cx="6842160" cy="4233600"/>
            <a:chOff x="1150920" y="1432080"/>
            <a:chExt cx="6842160" cy="4233600"/>
          </a:xfrm>
        </p:grpSpPr>
        <p:sp>
          <p:nvSpPr>
            <p:cNvPr id="125" name="Oval 5"/>
            <p:cNvSpPr/>
            <p:nvPr/>
          </p:nvSpPr>
          <p:spPr>
            <a:xfrm>
              <a:off x="1150920" y="2390400"/>
              <a:ext cx="6842160" cy="32752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pic>
          <p:nvPicPr>
            <p:cNvPr id="126" name="Picture 1" descr=""/>
            <p:cNvPicPr/>
            <p:nvPr/>
          </p:nvPicPr>
          <p:blipFill>
            <a:blip r:embed="rId1"/>
            <a:stretch/>
          </p:blipFill>
          <p:spPr>
            <a:xfrm>
              <a:off x="1589040" y="1455480"/>
              <a:ext cx="1580400" cy="302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" descr=""/>
            <p:cNvPicPr/>
            <p:nvPr/>
          </p:nvPicPr>
          <p:blipFill>
            <a:blip r:embed="rId2"/>
            <a:stretch/>
          </p:blipFill>
          <p:spPr>
            <a:xfrm>
              <a:off x="3809880" y="1432080"/>
              <a:ext cx="1557720" cy="302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3" descr=""/>
            <p:cNvPicPr/>
            <p:nvPr/>
          </p:nvPicPr>
          <p:blipFill>
            <a:blip r:embed="rId3"/>
            <a:stretch/>
          </p:blipFill>
          <p:spPr>
            <a:xfrm>
              <a:off x="6030720" y="1458360"/>
              <a:ext cx="1562400" cy="301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Box 6"/>
            <p:cNvSpPr/>
            <p:nvPr/>
          </p:nvSpPr>
          <p:spPr>
            <a:xfrm>
              <a:off x="1846440" y="4496400"/>
              <a:ext cx="5747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Sustainable Quality Infrastructure Delivery and Investments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>
              <a:off x="5715360" y="2266560"/>
              <a:ext cx="2104200" cy="695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1" name="Oval 12"/>
            <p:cNvSpPr/>
            <p:nvPr/>
          </p:nvSpPr>
          <p:spPr>
            <a:xfrm>
              <a:off x="3577320" y="2266560"/>
              <a:ext cx="2007720" cy="1234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2" name="Oval 12"/>
            <p:cNvSpPr/>
            <p:nvPr/>
          </p:nvSpPr>
          <p:spPr>
            <a:xfrm>
              <a:off x="1360800" y="2836080"/>
              <a:ext cx="1913040" cy="4449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3" name="Oval 12"/>
            <p:cNvSpPr/>
            <p:nvPr/>
          </p:nvSpPr>
          <p:spPr>
            <a:xfrm>
              <a:off x="5691240" y="3262320"/>
              <a:ext cx="2007720" cy="1051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4" name="Oval 12"/>
            <p:cNvSpPr/>
            <p:nvPr/>
          </p:nvSpPr>
          <p:spPr>
            <a:xfrm>
              <a:off x="1326960" y="2348280"/>
              <a:ext cx="1913040" cy="2473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35" name="Down Arrow 8"/>
          <p:cNvSpPr/>
          <p:nvPr/>
        </p:nvSpPr>
        <p:spPr>
          <a:xfrm>
            <a:off x="4433760" y="5288040"/>
            <a:ext cx="631800" cy="501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Oval 12"/>
          <p:cNvSpPr/>
          <p:nvPr/>
        </p:nvSpPr>
        <p:spPr>
          <a:xfrm>
            <a:off x="1397160" y="3714840"/>
            <a:ext cx="1912680" cy="312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000" y="3429000"/>
            <a:ext cx="77770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d624"/>
                </a:solidFill>
                <a:latin typeface="Verdana"/>
              </a:rPr>
              <a:t>Thank you for your attention!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08:42:10Z</dcterms:created>
  <dc:creator>WALLEF Lionel (DEVCO)</dc:creator>
  <dc:description/>
  <cp:keywords>PEFA Workshop-Brussels</cp:keywords>
  <dc:language>en-US</dc:language>
  <cp:lastModifiedBy>KETTNER Juergen (DEVCO)</cp:lastModifiedBy>
  <cp:lastPrinted>2016-02-17T17:25:58Z</cp:lastPrinted>
  <dcterms:modified xsi:type="dcterms:W3CDTF">2019-11-29T11:52:34Z</dcterms:modified>
  <cp:revision>411</cp:revision>
  <dc:subject/>
  <dc:title>ESA-IO High Level Forum  11tRegional programming</dc:title>
</cp:coreProperties>
</file>